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himes.wav" ContentType="audio/x-wav"/>
  <Override PartName="/ppt/media/image7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3B3-2026-484E-B4F5-CEF794E9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07FD-3C04-4510-9763-0C808C03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1BD-8119-4C64-9D34-8FBBEBB3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AB6-082A-4F26-B6BB-8446A86D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B414-66C9-4CD9-8B45-EEFAB8E5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C189-C80C-4F36-AA3C-A7A8CDD9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07AD-990D-4102-8397-6DC1177C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7E8D-8FAB-4B68-830F-08836B96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C55E-30C1-46B5-84C8-ED632A7D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F2B9-3070-422B-9870-FBD8908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21D3-5E53-4608-80E9-0468F597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221F-6ECF-4EC9-9DB9-407B8CFA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BC5E-820F-45DB-9C53-0B911150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305A-6CDB-4E6E-9D5D-7471AE65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E876-5C8A-40D5-AF49-0DEAA935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43BB-4516-470A-8B46-A8A53DFC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F8AD-0104-41F6-82FC-A6515CF3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21D-3008-4913-A546-7F250709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285-9B76-4337-8D9C-A798717B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F2D-CDF0-4885-9D89-BC89E20A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6CB-F062-420D-9871-7FEFDE6B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160-9DD3-42F2-94D4-DA5F5A90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B6D-20E7-405C-849C-E0D4CDB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BCD-0390-4B89-B28C-D2786C0B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BC9C-6F32-496D-BFAB-0926EBCE87B4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54E0-6C1F-445B-8612-40C8AE7E0E07}" type="slidenum">
              <a:rPr b="0" lang="it-IT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609480"/>
            <a:ext cx="73915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Questa non è una chiave qualsiasi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Puoi decidere se prenderla con 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o lasciarla qui, sullo scherm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5760" y="21337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843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2438280"/>
            <a:ext cx="2666880" cy="1295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ff"/>
                </a:solidFill>
                <a:latin typeface="Times New Roman"/>
              </a:rPr>
              <a:t>…</a:t>
            </a:r>
            <a:r>
              <a:rPr b="0" lang="it-IT" sz="2400" spc="-1" strike="noStrike">
                <a:solidFill>
                  <a:srgbClr val="6600ff"/>
                </a:solidFill>
                <a:latin typeface="Times New Roman"/>
              </a:rPr>
              <a:t>che chiave </a:t>
            </a:r>
            <a:r>
              <a:rPr b="0" lang="it-IT" sz="4400" spc="-1" strike="noStrike">
                <a:solidFill>
                  <a:srgbClr val="6600ff"/>
                </a:solidFill>
                <a:latin typeface="Times New Roman"/>
              </a:rPr>
              <a:t>è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3809880"/>
            <a:ext cx="2743200" cy="1524240"/>
          </a:xfrm>
          <a:prstGeom prst="wedgeRoundRectCallout">
            <a:avLst>
              <a:gd name="adj1" fmla="val 59782"/>
              <a:gd name="adj2" fmla="val 86356"/>
              <a:gd name="adj3" fmla="val 1666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1280" y="3962520"/>
            <a:ext cx="24696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ff"/>
                </a:solidFill>
                <a:latin typeface="Times New Roman"/>
              </a:rPr>
              <a:t>Serve per and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ff"/>
                </a:solidFill>
                <a:latin typeface="Times New Roman"/>
              </a:rPr>
              <a:t>piu’ in là</a:t>
            </a:r>
            <a:r>
              <a:rPr b="1" lang="it-IT" sz="2400" spc="-1" strike="noStrike">
                <a:solidFill>
                  <a:srgbClr val="6600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ff"/>
                </a:solidFill>
                <a:latin typeface="Times New Roman"/>
              </a:rPr>
              <a:t>Allora, vieni o no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65240" y="304920"/>
            <a:ext cx="574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ASCOLTA COSA DICE IL PRIMO LIBR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Dio crea l’uomo maschio e femmi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e i due si uniranno e saranno una carne sola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2133720"/>
            <a:ext cx="2971800" cy="1600200"/>
          </a:xfrm>
          <a:prstGeom prst="wedgeRoundRectCallout">
            <a:avLst>
              <a:gd name="adj1" fmla="val 57212"/>
              <a:gd name="adj2" fmla="val 61208"/>
              <a:gd name="adj3" fmla="val 1666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996633"/>
                </a:solidFill>
                <a:latin typeface="Times New Roman"/>
              </a:rPr>
              <a:t>La sessualità è vis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996633"/>
                </a:solidFill>
                <a:latin typeface="Times New Roman"/>
              </a:rPr>
              <a:t>come continuità dell’opera creatr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996633"/>
                </a:solidFill>
                <a:latin typeface="Times New Roman"/>
              </a:rPr>
              <a:t>Di Di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43434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Nel Cantico dei Cantici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si raggiunge il massimo della libertà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Leggi questi passi…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e osserva come la Parola di D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sa comunicare l’amore con libertà vera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38800" y="523800"/>
            <a:ext cx="674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Che lui mi baci con i baci della sua bocca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5120" y="1362240"/>
            <a:ext cx="627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Quanto sei bella e quanto ammirevole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carissima, in delizia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17880" y="3038400"/>
            <a:ext cx="649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La tua bocca è come vino ottimo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degno di essere bevuto…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32080" y="4343400"/>
            <a:ext cx="721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Il tuo nome è più dolce del vino. A ragione le ragazze si innamorano di t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79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aeaea"/>
                </a:solidFill>
                <a:latin typeface="Times New Roman"/>
              </a:rPr>
              <a:t>QUESTA E’ PAROLA DI DIO!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762120"/>
            <a:ext cx="73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Sai perché espressioni così si trovano nella Bibbia? Perché la bellezza per l’israelita non è un elemento che allontana l’uomo da Di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362320"/>
            <a:ext cx="830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La bellezza è ammirata, desiderata, ama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LA Bibbia dice che Rebecca, moglie di Isacco è una </a:t>
            </a:r>
            <a:r>
              <a:rPr b="1" i="1" lang="it-IT" sz="2800" spc="-1" strike="noStrike">
                <a:solidFill>
                  <a:srgbClr val="eaeaea"/>
                </a:solidFill>
                <a:latin typeface="Times New Roman"/>
              </a:rPr>
              <a:t>“ragazza bellissima”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Rachele, moglie di Giacobbe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è </a:t>
            </a:r>
            <a:r>
              <a:rPr b="1" i="1" lang="it-IT" sz="2800" spc="-1" strike="noStrike">
                <a:solidFill>
                  <a:srgbClr val="eaeaea"/>
                </a:solidFill>
                <a:latin typeface="Times New Roman"/>
              </a:rPr>
              <a:t>“Piacevole e di bell’aspetto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4876920"/>
            <a:ext cx="733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La Bibbia ci insegna che la bellezza è un don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ed è pure un aspetto da curare perch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anche questo è vivere b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la propria sessualità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67440" y="676440"/>
            <a:ext cx="667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Vivere bene la propria sessualità 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aver cura del proprio corpo, perché cur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l’aspetto esteriore non significa trascura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quello interior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3526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Il tuo corpo ha una funzione importan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e la Bibbia non ha nessuna reticenz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ad affermarlo…anzi!!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3049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Pensa che nel Libro di Ester c’è scritto che prima dell’incontro con il re Assuero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per sei mesi Ester si fa massaggi con oli profuma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e per altri sei usa balsami e cosmetici!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4680" y="2590920"/>
            <a:ext cx="641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La Bibbia non tace nemmeno a riguard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dell’atto sessuale purchè sia vissut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nella tenerezza e nell’amore ve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89840" y="4114800"/>
            <a:ext cx="5228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aeaea"/>
                </a:solidFill>
                <a:latin typeface="Times New Roman"/>
              </a:rPr>
              <a:t>“…</a:t>
            </a:r>
            <a:r>
              <a:rPr b="1" i="1" lang="it-IT" sz="2800" spc="-1" strike="noStrike">
                <a:solidFill>
                  <a:srgbClr val="eaeaea"/>
                </a:solidFill>
                <a:latin typeface="Times New Roman"/>
              </a:rPr>
              <a:t>ella ti abbracci nel suo amor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si legge nel libro dei Proverb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5257800"/>
            <a:ext cx="554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i="1" lang="it-IT" sz="2800" spc="-1" strike="noStrike">
                <a:solidFill>
                  <a:srgbClr val="eaeaea"/>
                </a:solidFill>
                <a:latin typeface="Times New Roman"/>
              </a:rPr>
              <a:t>Godi la vita con la moglie che ami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Si legge nel libro del  Qoel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0"/>
            <a:ext cx="8001000" cy="6858000"/>
          </a:xfrm>
          <a:prstGeom prst="sun">
            <a:avLst>
              <a:gd name="adj" fmla="val 25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1981080"/>
            <a:ext cx="419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it-IT" sz="2400" spc="-1" strike="noStrike">
                <a:solidFill>
                  <a:srgbClr val="6600ff"/>
                </a:solidFill>
                <a:latin typeface="Times New Roman"/>
              </a:rPr>
              <a:t>In nessu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it-IT" sz="2400" spc="-1" strike="noStrike">
                <a:solidFill>
                  <a:srgbClr val="6600ff"/>
                </a:solidFill>
                <a:latin typeface="Times New Roman"/>
              </a:rPr>
              <a:t>arte della Bibbia si dice che </a:t>
            </a: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la </a:t>
            </a:r>
            <a:r>
              <a:rPr b="0" lang="it-IT" sz="2400" spc="-1" strike="noStrike">
                <a:solidFill>
                  <a:srgbClr val="6600ff"/>
                </a:solidFill>
                <a:latin typeface="Times New Roman"/>
              </a:rPr>
              <a:t>sessualità è una cosa impur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6600ff"/>
                </a:solidFill>
                <a:latin typeface="Times New Roman"/>
              </a:rPr>
              <a:t>DIO PERO’ INVITA A   VIVERLA CON RISPET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6094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Nel Nuovo Testamento le cose non cambian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Gesù partecipa alle nozze di Canaan e non c’è mai nelle Sue parole alcuna accusa o scarsa considerazione del sess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1600" y="2971800"/>
            <a:ext cx="655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LA BIBBIA CI INVITA AD AVERE UN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VISIONE CHIARA DELLA SESSUALITA’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PERCHE’ CHI NON CE L’HA VA INCONT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A SERI GUAI!!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8456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952880"/>
            <a:ext cx="4648320" cy="1295640"/>
          </a:xfrm>
          <a:prstGeom prst="wedgeRoundRectCallout">
            <a:avLst>
              <a:gd name="adj1" fmla="val 54611"/>
              <a:gd name="adj2" fmla="val 67402"/>
              <a:gd name="adj3" fmla="val 1666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49528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Mettici ancora un po’ d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attenzione e capirai tutto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ma proprio tutto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05120" y="1143000"/>
            <a:ext cx="634032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La Bibbia ci insegna che la sessualit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è una potenzialita’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per amare davvero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ma ha anche i suoi confini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Chiediti sempre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prima di fare un’azione</a:t>
            </a: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it-IT" sz="4000" spc="-1" strike="noStrike">
                <a:solidFill>
                  <a:srgbClr val="ffcc66"/>
                </a:solidFill>
                <a:latin typeface="Times New Roman"/>
              </a:rPr>
              <a:t>Mi è veramente utile?”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84240" y="422280"/>
            <a:ext cx="64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Gli insegnamenti della Bibbia sono molto chia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06720" y="990720"/>
            <a:ext cx="794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i="1" lang="it-IT" sz="2800" spc="-1" strike="noStrike">
                <a:solidFill>
                  <a:srgbClr val="ffcc66"/>
                </a:solidFill>
                <a:latin typeface="Times New Roman"/>
              </a:rPr>
              <a:t>Questa è la volontà di Dio: che vi santifichiate, 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c66"/>
                </a:solidFill>
                <a:latin typeface="Times New Roman"/>
              </a:rPr>
              <a:t>Vi asteniate dalla fornicazione, che ciascuno di vo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c66"/>
                </a:solidFill>
                <a:latin typeface="Times New Roman"/>
              </a:rPr>
              <a:t>Sappia possedere il proprio corpo in santità e onore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c66"/>
                </a:solidFill>
                <a:latin typeface="Times New Roman"/>
              </a:rPr>
              <a:t>Senza abbandonarsi a passioni disordinate” </a:t>
            </a:r>
            <a:r>
              <a:rPr b="1" i="1" lang="it-IT" sz="1800" spc="-1" strike="noStrike">
                <a:solidFill>
                  <a:srgbClr val="ffcc66"/>
                </a:solidFill>
                <a:latin typeface="Times New Roman"/>
              </a:rPr>
              <a:t>(1Tess 4,3-5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76800" y="2914560"/>
            <a:ext cx="643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it-IT" sz="3200" spc="-1" strike="noStrike">
                <a:solidFill>
                  <a:srgbClr val="ff33cc"/>
                </a:solidFill>
                <a:latin typeface="Times New Roman"/>
              </a:rPr>
              <a:t>Fuggi gli appetiti giovanili” </a:t>
            </a:r>
            <a:r>
              <a:rPr b="1" lang="it-IT" sz="1800" spc="-1" strike="noStrike">
                <a:solidFill>
                  <a:srgbClr val="ff33cc"/>
                </a:solidFill>
                <a:latin typeface="Times New Roman"/>
              </a:rPr>
              <a:t>(2 Tim 2,2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4560" y="3809880"/>
            <a:ext cx="7488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“</a:t>
            </a:r>
            <a:r>
              <a:rPr b="1" i="1" lang="it-IT" sz="2800" spc="-1" strike="noStrike">
                <a:solidFill>
                  <a:srgbClr val="eeb00b"/>
                </a:solidFill>
                <a:latin typeface="Times New Roman"/>
              </a:rPr>
              <a:t>Chiunque guarda una donna per desiderar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eeb00b"/>
                </a:solidFill>
                <a:latin typeface="Times New Roman"/>
              </a:rPr>
              <a:t>Ha già commesso adulterio con lei nel suo cuor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eeb00b"/>
                </a:solidFill>
                <a:latin typeface="Times New Roman"/>
              </a:rPr>
              <a:t>(Matteo 5,28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58360" y="5486400"/>
            <a:ext cx="61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Se il tuo occhio è malvagio, tutto il tuo cor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sarà nelle tenebre”  </a:t>
            </a:r>
            <a:r>
              <a:rPr b="1" lang="it-IT" sz="1800" spc="-1" strike="noStrike">
                <a:solidFill>
                  <a:srgbClr val="eaeaea"/>
                </a:solidFill>
                <a:latin typeface="Times New Roman"/>
              </a:rPr>
              <a:t>(Mt 6,22-23)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380880"/>
            <a:ext cx="8001000" cy="180036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ff33cc"/>
                </a:solidFill>
                <a:latin typeface="Times New Roman"/>
              </a:rPr>
              <a:t>Ognuno è tentato dalla propria concupiscenza che lo attrae e lo seduce. Poi la concupiscenza, quando ha concepito, partorisce il peccato, e il peccato, quando è compiuto, produce la morte”</a:t>
            </a:r>
            <a:r>
              <a:rPr b="1" lang="it-IT" sz="1800" spc="-1" strike="noStrike">
                <a:solidFill>
                  <a:srgbClr val="ff33cc"/>
                </a:solidFill>
                <a:latin typeface="Times New Roman"/>
              </a:rPr>
              <a:t>(Giacomo 1,14-15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2819520"/>
            <a:ext cx="4572000" cy="3581280"/>
          </a:xfrm>
          <a:prstGeom prst="noSmoking">
            <a:avLst>
              <a:gd name="adj" fmla="val 125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82680" y="3124080"/>
            <a:ext cx="488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LA Bibbia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verso la sessualit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propone divieti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o invita all’ord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e al rispett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PARLIAMONE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1143000"/>
            <a:ext cx="6400800" cy="4648320"/>
          </a:xfrm>
          <a:prstGeom prst="wedgeEllipseCallout">
            <a:avLst>
              <a:gd name="adj1" fmla="val -78050"/>
              <a:gd name="adj2" fmla="val -29236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133720"/>
            <a:ext cx="5827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O.K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Proviamo insieme ad andar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più in là! ….Dove?!?!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h, ma questo lo capirai da sol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IAO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43760" y="600120"/>
            <a:ext cx="649908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C’è un nemico che ci impedisce di viv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al meglio la nostra sessualità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200b5b"/>
                </a:solidFill>
                <a:latin typeface="Times New Roman"/>
              </a:rPr>
              <a:t>LA CONCUPISCENZA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3429000"/>
            <a:ext cx="746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E’ una parola che deriva dal greco “epithymia”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che letteralmente significa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99ff"/>
                </a:solidFill>
                <a:latin typeface="Times New Roman"/>
              </a:rPr>
              <a:t>desiderio, brama, bramos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2760" y="380880"/>
            <a:ext cx="75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In tutta la Bibbia questa parola ricorre 38 volt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ma essa è presente in quasi tutto il contesto della Paro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di Dio.  Vuol dire che è una parola da tenere sott’occhio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6600" y="1905120"/>
            <a:ext cx="7745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La concupiescenza è tutto ciò che precede l’azio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del pecca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Pensieri, immagini… che non sono in accor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alla volontà di D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8160" y="4191120"/>
            <a:ext cx="713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Viene spontaneo chiederci: la concupiscenza 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incontrollabile o possiamo evitarl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4800600"/>
            <a:ext cx="2666880" cy="1752480"/>
          </a:xfrm>
          <a:prstGeom prst="wedgeEllipseCallout">
            <a:avLst>
              <a:gd name="adj1" fmla="val 50000"/>
              <a:gd name="adj2" fmla="val 50634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66"/>
                </a:solidFill>
                <a:latin typeface="Times New Roman"/>
              </a:rPr>
              <a:t>Chiediamo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9966"/>
                </a:solidFill>
                <a:latin typeface="Times New Roman"/>
              </a:rPr>
              <a:t>Alla PAROL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3880" y="685800"/>
            <a:ext cx="7467840" cy="1905120"/>
          </a:xfrm>
          <a:prstGeom prst="foldedCorner">
            <a:avLst>
              <a:gd name="adj" fmla="val 12500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609480"/>
            <a:ext cx="792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eaeaea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it-IT" sz="3600" spc="-1" strike="noStrike">
                <a:solidFill>
                  <a:srgbClr val="eaeaea"/>
                </a:solidFill>
                <a:latin typeface="Times New Roman"/>
              </a:rPr>
              <a:t>Il peccat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aeaea"/>
                </a:solidFill>
                <a:latin typeface="Times New Roman"/>
              </a:rPr>
              <a:t>sta spiandoti alla porta,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aeaea"/>
                </a:solidFill>
                <a:latin typeface="Times New Roman"/>
              </a:rPr>
              <a:t>ma tu lo devi dominare”  </a:t>
            </a:r>
            <a:r>
              <a:rPr b="1" lang="it-IT" sz="1800" spc="-1" strike="noStrike">
                <a:solidFill>
                  <a:srgbClr val="eaeaea"/>
                </a:solidFill>
                <a:latin typeface="Times New Roman"/>
              </a:rPr>
              <a:t>(Gen 4,3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2004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Se non scacci i pensieri dalla tua mente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eb00b"/>
                </a:solidFill>
                <a:latin typeface="Times New Roman"/>
              </a:rPr>
              <a:t>non ce la farai mai a vincer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4419720"/>
            <a:ext cx="80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Il diavolo tenta il cristiano non nello spirito, qui egl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non ha accesso. Egli lo tenta attraverso la mente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i pensieri, facendoci ragionare a modo suo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E’ così che nasce il peccato!  Sta’ attento!!!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86280" y="533520"/>
            <a:ext cx="778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Resisti a tutti quei pensieri malsani che ti voglion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allontanare dalla comunione con Dio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scacciali prontamente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60680" y="20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2362320"/>
            <a:ext cx="5562720" cy="2438280"/>
          </a:xfrm>
          <a:prstGeom prst="foldedCorner">
            <a:avLst>
              <a:gd name="adj" fmla="val 12500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2362320"/>
            <a:ext cx="7254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eaeaea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i="1" lang="it-IT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i="1" lang="it-IT" sz="4000" spc="-1" strike="noStrike">
                <a:solidFill>
                  <a:srgbClr val="ffcc66"/>
                </a:solidFill>
                <a:latin typeface="Times New Roman"/>
              </a:rPr>
              <a:t>Sottomettetevi a Dio, resistete al diavol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cc66"/>
                </a:solidFill>
                <a:latin typeface="Times New Roman"/>
              </a:rPr>
              <a:t>ed egli fuggirà da voi”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cc66"/>
                </a:solidFill>
                <a:latin typeface="Times New Roman"/>
              </a:rPr>
              <a:t>(Giac 4,</a:t>
            </a:r>
            <a:r>
              <a:rPr b="1" lang="it-IT" sz="1800" spc="-1" strike="noStrike">
                <a:solidFill>
                  <a:srgbClr val="ffcc66"/>
                </a:solidFill>
                <a:latin typeface="Times New Roman"/>
              </a:rPr>
              <a:t>7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52480" y="533520"/>
            <a:ext cx="6477120" cy="3200400"/>
          </a:xfrm>
          <a:prstGeom prst="foldedCorner">
            <a:avLst>
              <a:gd name="adj" fmla="val 12500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156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685800"/>
            <a:ext cx="648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Non conformatevi alle concupiscenze del tempo passato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quando eravate nell’ignoranza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ma come Colui che vi ha chiamati è santo, voi pure siate santi in tutta la vostra condotta”         </a:t>
            </a:r>
            <a:r>
              <a:rPr b="1" lang="it-IT" sz="1800" spc="-1" strike="noStrike">
                <a:solidFill>
                  <a:srgbClr val="eaeaea"/>
                </a:solidFill>
                <a:latin typeface="Times New Roman"/>
              </a:rPr>
              <a:t>(1 Pt 1,14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991360" y="-482868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4114800"/>
            <a:ext cx="190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ffcc66"/>
                </a:solidFill>
                <a:latin typeface="Wingdings"/>
                <a:ea typeface="Wingdings"/>
              </a:rPr>
              <a:t>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90440" y="4308480"/>
            <a:ext cx="41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La Parola di Dio ci assicu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che la concupiscenza può esse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66"/>
                </a:solidFill>
                <a:latin typeface="Times New Roman"/>
              </a:rPr>
              <a:t>allontanata dalla nostra m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581280" y="1219320"/>
            <a:ext cx="4876920" cy="1981080"/>
          </a:xfrm>
          <a:prstGeom prst="foldedCorner">
            <a:avLst>
              <a:gd name="adj" fmla="val 12500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5120" y="121932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ffcc66"/>
                </a:solidFill>
                <a:latin typeface="Wingdings"/>
                <a:ea typeface="Wingdings"/>
              </a:rPr>
              <a:t>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90800" y="1336680"/>
            <a:ext cx="4632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it-IT" sz="2400" spc="-1" strike="noStrike">
                <a:solidFill>
                  <a:srgbClr val="ffcc66"/>
                </a:solidFill>
                <a:latin typeface="Times New Roman"/>
              </a:rPr>
              <a:t>Camminate con timore per tut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Times New Roman"/>
              </a:rPr>
              <a:t>Il tempo del vostro pellegrinaggio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Times New Roman"/>
              </a:rPr>
              <a:t>sapendo che siete stati riscatta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Times New Roman"/>
              </a:rPr>
              <a:t>col prezioso sangue di Cristo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c66"/>
                </a:solidFill>
                <a:latin typeface="Times New Roman"/>
              </a:rPr>
              <a:t>(1Pt 1,19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9600" y="3581280"/>
            <a:ext cx="732528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Combatti dunque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sapendo che la vittoria è tu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per mezzo del Sangue di Cristo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Cristo ha vinto per tutti il peccat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aeaea"/>
                </a:solidFill>
                <a:latin typeface="Times New Roman"/>
              </a:rPr>
              <a:t>Con Lui possiamo vincere anche noi!!!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181480" y="457200"/>
            <a:ext cx="3048120" cy="2133720"/>
          </a:xfrm>
          <a:prstGeom prst="wedgeEllipseCallout">
            <a:avLst>
              <a:gd name="adj1" fmla="val 69532"/>
              <a:gd name="adj2" fmla="val 29611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ock"/>
          <p:cNvSpPr/>
          <p:nvPr/>
        </p:nvSpPr>
        <p:spPr>
          <a:xfrm>
            <a:off x="1523880" y="228600"/>
            <a:ext cx="3705480" cy="4648320"/>
          </a:xfrm>
          <a:prstGeom prst="pie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200b5b"/>
                </a:solidFill>
                <a:latin typeface="Times New Roman"/>
              </a:rPr>
              <a:t>PERICOLO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200b5b"/>
                </a:solidFill>
                <a:latin typeface="Times New Roman"/>
              </a:rPr>
              <a:t>DI MORTE!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68580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00b5b"/>
                </a:solidFill>
                <a:latin typeface="Times New Roman"/>
              </a:rPr>
              <a:t>Se apri ques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00b5b"/>
                </a:solidFill>
                <a:latin typeface="Times New Roman"/>
              </a:rPr>
              <a:t>lucchet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200b5b"/>
                </a:solidFill>
                <a:latin typeface="Times New Roman"/>
              </a:rPr>
              <a:t>sei fritto!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1560" y="5083200"/>
            <a:ext cx="562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QUESTO E’ IL LUCCHET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DELLA PORNOGRAFIA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71600" y="3962520"/>
            <a:ext cx="7543800" cy="1752480"/>
          </a:xfrm>
          <a:prstGeom prst="foldedCorner">
            <a:avLst>
              <a:gd name="adj" fmla="val 28032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3840" y="457200"/>
            <a:ext cx="725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cc99ff"/>
                </a:solidFill>
                <a:latin typeface="Times New Roman"/>
              </a:rPr>
              <a:t>RICORDA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cc99ff"/>
                </a:solidFill>
                <a:latin typeface="Times New Roman"/>
              </a:rPr>
              <a:t>CHE LA PORNOGRAFIA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cc99ff"/>
                </a:solidFill>
                <a:latin typeface="Times New Roman"/>
              </a:rPr>
              <a:t>E’ DISTRUTTIVA!!!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971800"/>
            <a:ext cx="726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Corrompe le menti di quanti ne fanno us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73000" y="396252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ffcc66"/>
                </a:solidFill>
                <a:latin typeface="Wingdings"/>
                <a:ea typeface="Wingdings"/>
              </a:rPr>
              <a:t>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8680" y="4114800"/>
            <a:ext cx="624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L’empio è preso dalle sue stesse iniquit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e trattenuto dalle funi del suo peccato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66"/>
                </a:solidFill>
                <a:latin typeface="Times New Roman"/>
              </a:rPr>
              <a:t>(Prov. 5,2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47920" y="3505320"/>
            <a:ext cx="6858000" cy="2514600"/>
          </a:xfrm>
          <a:prstGeom prst="foldedCorner">
            <a:avLst>
              <a:gd name="adj" fmla="val 12500"/>
            </a:avLst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12600" y="523800"/>
            <a:ext cx="67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La peggior soluzione è giustificarsi dicen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1523880"/>
            <a:ext cx="2819520" cy="1524240"/>
          </a:xfrm>
          <a:prstGeom prst="cloudCallout">
            <a:avLst>
              <a:gd name="adj1" fmla="val 32768"/>
              <a:gd name="adj2" fmla="val -87500"/>
            </a:avLst>
          </a:prstGeom>
          <a:solidFill>
            <a:srgbClr val="cc99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38320" y="1641600"/>
            <a:ext cx="229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…</a:t>
            </a: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tanto lo fan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tutti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25280" y="3505320"/>
            <a:ext cx="58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800" spc="-1" strike="noStrike">
                <a:solidFill>
                  <a:srgbClr val="ffcc66"/>
                </a:solidFill>
                <a:latin typeface="Wingdings"/>
                <a:ea typeface="Wingdings"/>
              </a:rPr>
              <a:t>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67840" y="3505320"/>
            <a:ext cx="54216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Chi copre le sue colpe n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prospererà, ma chi le confess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e le abbandona otterr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misericordia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66"/>
                </a:solidFill>
                <a:latin typeface="Times New Roman"/>
              </a:rPr>
              <a:t>(Prov 28,13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739160" y="301680"/>
            <a:ext cx="40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cc66"/>
                </a:solidFill>
                <a:latin typeface="Times New Roman"/>
              </a:rPr>
              <a:t>Per concludere…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05520" y="1447920"/>
            <a:ext cx="6461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Times New Roman"/>
              </a:rPr>
              <a:t>La sessualità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Times New Roman"/>
              </a:rPr>
              <a:t>è un grande don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Times New Roman"/>
              </a:rPr>
              <a:t>che Dio ti ha dat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Times New Roman"/>
              </a:rPr>
              <a:t>per AMAR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Times New Roman"/>
              </a:rPr>
              <a:t>Se ti affidi alla Parola di Di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Times New Roman"/>
              </a:rPr>
              <a:t>camminerai sicuro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Times New Roman"/>
              </a:rPr>
              <a:t>e…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533520"/>
            <a:ext cx="76960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Siamo qui con te per aiutarti a fa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una esperienz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66"/>
                </a:solidFill>
                <a:latin typeface="Times New Roman"/>
              </a:rPr>
              <a:t>E ti auguriamo di non dimenticarla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905120"/>
            <a:ext cx="656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aeaea"/>
                </a:solidFill>
                <a:latin typeface="Times New Roman"/>
              </a:rPr>
              <a:t>Ti invitiamo ad ascoltare  DIO!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aeaea"/>
                </a:solidFill>
                <a:latin typeface="Times New Roman"/>
              </a:rPr>
              <a:t>Lui oggi ha qualcosa da dirti sul tuo esser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aeaea"/>
                </a:solidFill>
                <a:latin typeface="Times New Roman"/>
              </a:rPr>
              <a:t>Maschio o Femmina…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eaeaea"/>
                </a:solidFill>
                <a:latin typeface="Times New Roman"/>
              </a:rPr>
              <a:t>… </a:t>
            </a:r>
            <a:r>
              <a:rPr b="0" lang="it-IT" sz="3600" spc="-1" strike="noStrike">
                <a:solidFill>
                  <a:srgbClr val="eaeaea"/>
                </a:solidFill>
                <a:latin typeface="Times New Roman"/>
              </a:rPr>
              <a:t>Lui se ne intende, visto che ci ha voluti a sua immagine!!!!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590920" y="228600"/>
            <a:ext cx="4495320" cy="4514400"/>
            <a:chOff x="2590920" y="228600"/>
            <a:chExt cx="4495320" cy="4514400"/>
          </a:xfrm>
        </p:grpSpPr>
        <p:sp>
          <p:nvSpPr>
            <p:cNvPr id="195" name="Puzzle3"/>
            <p:cNvSpPr/>
            <p:nvPr/>
          </p:nvSpPr>
          <p:spPr>
            <a:xfrm>
              <a:off x="4780080" y="228600"/>
              <a:ext cx="1766880" cy="239904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Puzzle2"/>
            <p:cNvSpPr/>
            <p:nvPr/>
          </p:nvSpPr>
          <p:spPr>
            <a:xfrm>
              <a:off x="4266000" y="1976400"/>
              <a:ext cx="2820240" cy="218484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Puzzle4"/>
            <p:cNvSpPr/>
            <p:nvPr/>
          </p:nvSpPr>
          <p:spPr>
            <a:xfrm>
              <a:off x="3174480" y="1949400"/>
              <a:ext cx="1700280" cy="279360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Puzzle1"/>
            <p:cNvSpPr/>
            <p:nvPr/>
          </p:nvSpPr>
          <p:spPr>
            <a:xfrm>
              <a:off x="2590920" y="954360"/>
              <a:ext cx="285552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244520" y="4680000"/>
            <a:ext cx="779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66"/>
                </a:solidFill>
                <a:latin typeface="Times New Roman"/>
              </a:rPr>
              <a:t>…</a:t>
            </a:r>
            <a:r>
              <a:rPr b="1" lang="it-IT" sz="4000" spc="-1" strike="noStrike">
                <a:solidFill>
                  <a:srgbClr val="ff0066"/>
                </a:solidFill>
                <a:latin typeface="Times New Roman"/>
              </a:rPr>
              <a:t>sarai una persona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66"/>
                </a:solidFill>
                <a:latin typeface="Times New Roman"/>
              </a:rPr>
              <a:t>INTERIORMENTE UNIT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66"/>
                </a:solidFill>
                <a:latin typeface="Times New Roman"/>
              </a:rPr>
              <a:t>non frammentata in piccoli pezzi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457200"/>
            <a:ext cx="65692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Hai capito  adesso che questa chiave è La PAROLA DI DIO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Tienila con te, sempr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e ti accorgerai di andare piu’ in là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di volare al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dove puoi respirare aria pulita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E se la respiri tu, grazie a 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la respireranno anche le perso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che ti vivono accanto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E SARAI SEMPRE PIU’ CA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DI REGALARE AMORE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487520" y="1600200"/>
            <a:ext cx="738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ffcc66"/>
                </a:solidFill>
                <a:latin typeface="Bedrock"/>
              </a:rPr>
              <a:t>UN BREVE VIDEO 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ffcc66"/>
                </a:solidFill>
                <a:latin typeface="Bedrock"/>
              </a:rPr>
              <a:t>PER TE…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-330120" y="-380880"/>
          <a:ext cx="9650160" cy="7238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30120" y="-380880"/>
                    <a:ext cx="9650160" cy="72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  <p:sndAc>
      <p:stSnd>
        <p:snd r:embed="rId3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479840" y="3048120"/>
            <a:ext cx="2683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1038240"/>
            <a:ext cx="4572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038240"/>
            <a:ext cx="4572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2860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1038240"/>
            <a:ext cx="4572000" cy="81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3300"/>
                </a:solidFill>
                <a:latin typeface="Arial"/>
                <a:ea typeface="Arial"/>
              </a:rPr>
              <a:t>Egocentrism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  <p:sndAc>
      <p:stSnd>
        <p:snd r:embed="rId3" name="chimes.wav"/>
      </p:stSnd>
    </p:sndAc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  <p:sndAc>
      <p:stSnd>
        <p:snd r:embed="rId3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  <p:sndAc>
      <p:stSnd>
        <p:snd r:embed="rId3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  <p:sndAc>
      <p:stSnd>
        <p:snd r:embed="rId3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905120" y="3352680"/>
            <a:ext cx="5867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ao!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581280" y="1066680"/>
            <a:ext cx="2895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 Black"/>
              </a:rPr>
              <a:t> </a:t>
            </a: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 Black"/>
              </a:rPr>
              <a:t>FIN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30280" y="34596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Prima di tutto ricorda che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914400"/>
            <a:ext cx="6858000" cy="5410080"/>
          </a:xfrm>
          <a:custGeom>
            <a:avLst/>
            <a:gdLst>
              <a:gd name="textAreaLeft" fmla="*/ 1611720 w 6858000"/>
              <a:gd name="textAreaRight" fmla="*/ 5241600 w 6858000"/>
              <a:gd name="textAreaTop" fmla="*/ 636120 h 5410080"/>
              <a:gd name="textAreaBottom" fmla="*/ 3393720 h 5410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843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70160" y="1336680"/>
            <a:ext cx="53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Times New Roman"/>
              </a:rPr>
              <a:t>Obiettivo dell’educazione sessua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6600cc"/>
                </a:solidFill>
                <a:latin typeface="Times New Roman"/>
              </a:rPr>
              <a:t>è favorire la consapevole gestione del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cc"/>
                </a:solidFill>
                <a:latin typeface="Times New Roman"/>
              </a:rPr>
              <a:t>tue pulsion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9040" y="2666880"/>
            <a:ext cx="50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ff"/>
                </a:solidFill>
                <a:latin typeface="Times New Roman"/>
              </a:rPr>
              <a:t>Non solo: aiutarti a progettare megl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ff"/>
                </a:solidFill>
                <a:latin typeface="Times New Roman"/>
              </a:rPr>
              <a:t>le tue relazioni, le tue scelt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ff"/>
                </a:solidFill>
                <a:latin typeface="Times New Roman"/>
              </a:rPr>
              <a:t>le tue espressioni comunicativ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114800"/>
            <a:ext cx="219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6633"/>
                </a:solidFill>
                <a:latin typeface="Times New Roman"/>
              </a:rPr>
              <a:t>ANDARE PIU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6633"/>
                </a:solidFill>
                <a:latin typeface="Times New Roman"/>
              </a:rPr>
              <a:t>IN LA’!!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95240" y="380880"/>
            <a:ext cx="488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Sai vero che la SESSUALITA’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è un valore positiv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e fa parte di…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20600" y="2438280"/>
            <a:ext cx="469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eaeaea"/>
                </a:solidFill>
                <a:latin typeface="Times New Roman"/>
              </a:rPr>
              <a:t>…</a:t>
            </a:r>
            <a:r>
              <a:rPr b="1" lang="it-IT" sz="5400" spc="-1" strike="noStrike">
                <a:solidFill>
                  <a:srgbClr val="eaeaea"/>
                </a:solidFill>
                <a:latin typeface="Times New Roman"/>
              </a:rPr>
              <a:t>TUTTO TE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6880" y="4232160"/>
            <a:ext cx="78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= </a:t>
            </a: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IL TUO CORPO, LA TUA MENTE, I TUOI PENSIERI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LE TUE RELAZIONI CON GLI ALTRI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… </a:t>
            </a:r>
            <a:r>
              <a:rPr b="1" lang="it-IT" sz="3200" spc="-1" strike="noStrike">
                <a:solidFill>
                  <a:srgbClr val="eaeaea"/>
                </a:solidFill>
                <a:latin typeface="Times New Roman"/>
              </a:rPr>
              <a:t>Oh ce n’è, ce n’è!!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2320" y="685800"/>
            <a:ext cx="752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aeaea"/>
                </a:solidFill>
                <a:latin typeface="Times New Roman"/>
              </a:rPr>
              <a:t>SESSUALITA’ QUINDI </a:t>
            </a:r>
            <a:r>
              <a:rPr b="1" lang="it-IT" sz="3600" spc="-1" strike="noStrike" u="sng">
                <a:solidFill>
                  <a:srgbClr val="eaeaea"/>
                </a:solidFill>
                <a:uFillTx/>
                <a:latin typeface="Times New Roman"/>
              </a:rPr>
              <a:t>NON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eaeaea"/>
                </a:solidFill>
                <a:uFillTx/>
                <a:latin typeface="Times New Roman"/>
              </a:rPr>
              <a:t>E’</a:t>
            </a:r>
            <a:r>
              <a:rPr b="1" lang="it-IT" sz="3600" spc="-1" strike="noStrike">
                <a:solidFill>
                  <a:srgbClr val="eaeaea"/>
                </a:solidFill>
                <a:latin typeface="Times New Roman"/>
              </a:rPr>
              <a:t> SOLO CONOSCENZA DI COM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aeaea"/>
                </a:solidFill>
                <a:latin typeface="Times New Roman"/>
              </a:rPr>
              <a:t>E’ FATTO IL TUO CORPO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352680"/>
            <a:ext cx="4114800" cy="22100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92000" y="3774960"/>
            <a:ext cx="273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Menomale ch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andiamo un po’ pi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in là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85920" y="457200"/>
            <a:ext cx="715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Sarebbe tutto più chiaro se invece di educazione sessua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aeaea"/>
                </a:solidFill>
                <a:latin typeface="Times New Roman"/>
              </a:rPr>
              <a:t>diremmo </a:t>
            </a:r>
            <a:r>
              <a:rPr b="1" lang="it-IT" sz="2400" spc="-1" strike="noStrike">
                <a:solidFill>
                  <a:srgbClr val="eaeaea"/>
                </a:solidFill>
                <a:latin typeface="Times New Roman"/>
              </a:rPr>
              <a:t>EDUCAZIONE AL PROPRIO COR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3796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eb00b"/>
                </a:solidFill>
                <a:latin typeface="Times New Roman"/>
              </a:rPr>
              <a:t>vivere il tuo corp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eb00b"/>
                </a:solidFill>
                <a:latin typeface="Times New Roman"/>
              </a:rPr>
              <a:t>con tutte le s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eb00b"/>
                </a:solidFill>
                <a:latin typeface="Times New Roman"/>
              </a:rPr>
              <a:t>capacità comunicative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eb00b"/>
                </a:solidFill>
                <a:latin typeface="Times New Roman"/>
              </a:rPr>
              <a:t>con il suo linguaggi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eb00b"/>
                </a:solidFill>
                <a:latin typeface="Times New Roman"/>
              </a:rPr>
              <a:t>può essere anche semplicement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eb00b"/>
                </a:solidFill>
                <a:latin typeface="Times New Roman"/>
              </a:rPr>
              <a:t>fare un sorriso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eb00b"/>
                </a:solidFill>
                <a:latin typeface="Times New Roman"/>
              </a:rPr>
              <a:t>stringere la mano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eb00b"/>
                </a:solidFill>
                <a:latin typeface="Times New Roman"/>
              </a:rPr>
              <a:t>guardare negli occhi qualcuno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8760" y="1676520"/>
            <a:ext cx="41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cc66"/>
                </a:solidFill>
                <a:latin typeface="Times New Roman"/>
              </a:rPr>
              <a:t>SESSUALITA’ E’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09680" y="1143000"/>
            <a:ext cx="5867640" cy="3048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1066680"/>
            <a:ext cx="5029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339966"/>
                </a:solidFill>
                <a:latin typeface="Times New Roman"/>
              </a:rPr>
              <a:t>Secondo te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339966"/>
                </a:solidFill>
                <a:latin typeface="Times New Roman"/>
              </a:rPr>
              <a:t>la Bibbia è contro la sessualità?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339966"/>
                </a:solidFill>
                <a:latin typeface="Times New Roman"/>
              </a:rPr>
              <a:t>Non rispondere subito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i="1" lang="it-IT" sz="3600" spc="-1" strike="noStrike">
                <a:solidFill>
                  <a:srgbClr val="339966"/>
                </a:solidFill>
                <a:latin typeface="Times New Roman"/>
              </a:rPr>
              <a:t>rifletti un momento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28600" y="152280"/>
            <a:ext cx="75582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Nella Bibbia il significato che viene da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alla sfera sessuale è ampio e positiv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ed è lontano dal concetto di peccato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proprio perché fa parte della vit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58440" y="2997360"/>
            <a:ext cx="678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La Parola di Dio parla dell’amo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in modo così puro e libe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aeaea"/>
                </a:solidFill>
                <a:latin typeface="Times New Roman"/>
              </a:rPr>
              <a:t>che diventa liberante per chiunque la legg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800600"/>
            <a:ext cx="2895480" cy="1295280"/>
          </a:xfrm>
          <a:prstGeom prst="cloudCallout">
            <a:avLst>
              <a:gd name="adj1" fmla="val -46379"/>
              <a:gd name="adj2" fmla="val 99388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880" y="502920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Che differenz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6633"/>
                </a:solidFill>
                <a:latin typeface="Times New Roman"/>
              </a:rPr>
              <a:t>dalla TV!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9:09:18Z</dcterms:created>
  <dc:creator>.</dc:creator>
  <dc:description/>
  <dc:language>en-US</dc:language>
  <cp:lastModifiedBy>Stefo&amp;Stefi</cp:lastModifiedBy>
  <dcterms:modified xsi:type="dcterms:W3CDTF">2007-07-11T16:53:16Z</dcterms:modified>
  <cp:revision>15</cp:revision>
  <dc:subject/>
  <dc:title>Presentazione di PowerPoint</dc:title>
</cp:coreProperties>
</file>